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gif" ContentType="image/gif"/>
  <Override PartName="/ppt/media/image11.png" ContentType="image/png"/>
  <Override PartName="/ppt/media/image17.jpeg" ContentType="image/jpeg"/>
  <Override PartName="/ppt/media/image14.png" ContentType="image/png"/>
  <Override PartName="/ppt/media/projctor.wav" ContentType="audio/x-wav"/>
  <Override PartName="/ppt/media/image16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E564-BB89-4DD0-AE8E-FAE8E3D4E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biosci.uga.edu/almanac/bio_103/notes/may_15.html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4556-03FD-454D-B4CA-90CB25ADF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AF77-20FE-4290-9EBC-C1D87B3C5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 representing the cell membra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ove image i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biosci.uga.edu/almanac/bio_103/notes/may_15.htm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 found it a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-Line Biology Boo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gened.emc.maricopa.edu/bio/BIO181/BIOBK/BioBookCELL2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DA9-A107-4906-90D5-7E9AAD8E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BB0-F053-4D66-95FE-A5862737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5A7-1826-428B-8E2F-E521D558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636-3BC1-4BF8-BF0A-F8E0E686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9C4-23C1-4B6B-A903-78290529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DE0-FA6B-4021-9C96-BCB2A5A6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3C4-11F0-44D8-A2ED-F792F5C1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50A-EE6F-47BE-B812-7B5FD1DB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F22-9CAE-4E92-987D-B69951C4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383-DA06-43F5-AD8A-D65816F6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ED1-37DE-4B2C-97E0-31DAB899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AFD-EC93-4093-9BE9-47528CC2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3F89-D764-452F-A4FC-EC6916D7B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487600" y="329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The Plasma Membrane and Homeostasi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161"/>
          <p:cNvGrpSpPr/>
          <p:nvPr/>
        </p:nvGrpSpPr>
        <p:grpSpPr>
          <a:xfrm>
            <a:off x="283320" y="330480"/>
            <a:ext cx="3338280" cy="4577760"/>
            <a:chOff x="283320" y="330480"/>
            <a:chExt cx="3338280" cy="4577760"/>
          </a:xfrm>
        </p:grpSpPr>
        <p:sp>
          <p:nvSpPr>
            <p:cNvPr id="50" name="Freeform 5"/>
            <p:cNvSpPr/>
            <p:nvPr/>
          </p:nvSpPr>
          <p:spPr>
            <a:xfrm rot="1759800">
              <a:off x="684360" y="3593880"/>
              <a:ext cx="1241280" cy="39204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856" h="568">
                  <a:moveTo>
                    <a:pt x="504" y="96"/>
                  </a:moveTo>
                  <a:cubicBezTo>
                    <a:pt x="416" y="64"/>
                    <a:pt x="120" y="32"/>
                    <a:pt x="72" y="96"/>
                  </a:cubicBezTo>
                  <a:cubicBezTo>
                    <a:pt x="24" y="160"/>
                    <a:pt x="0" y="408"/>
                    <a:pt x="216" y="480"/>
                  </a:cubicBezTo>
                  <a:cubicBezTo>
                    <a:pt x="432" y="552"/>
                    <a:pt x="1096" y="568"/>
                    <a:pt x="1368" y="528"/>
                  </a:cubicBezTo>
                  <a:cubicBezTo>
                    <a:pt x="1640" y="488"/>
                    <a:pt x="1840" y="328"/>
                    <a:pt x="1848" y="240"/>
                  </a:cubicBezTo>
                  <a:cubicBezTo>
                    <a:pt x="1856" y="152"/>
                    <a:pt x="1536" y="0"/>
                    <a:pt x="1416" y="0"/>
                  </a:cubicBezTo>
                  <a:cubicBezTo>
                    <a:pt x="1296" y="0"/>
                    <a:pt x="1264" y="192"/>
                    <a:pt x="1128" y="240"/>
                  </a:cubicBezTo>
                  <a:cubicBezTo>
                    <a:pt x="992" y="288"/>
                    <a:pt x="704" y="312"/>
                    <a:pt x="600" y="288"/>
                  </a:cubicBezTo>
                  <a:cubicBezTo>
                    <a:pt x="496" y="264"/>
                    <a:pt x="592" y="128"/>
                    <a:pt x="504" y="96"/>
                  </a:cubicBezTo>
                  <a:close/>
                </a:path>
              </a:pathLst>
            </a:custGeom>
            <a:solidFill>
              <a:srgbClr val="1f497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 flipV="1" rot="1759800">
              <a:off x="870840" y="3307680"/>
              <a:ext cx="1238760" cy="333720"/>
            </a:xfrm>
            <a:custGeom>
              <a:avLst/>
              <a:gdLst>
                <a:gd name="textAreaLeft" fmla="*/ 0 w 1238760"/>
                <a:gd name="textAreaRight" fmla="*/ 1239120 w 1238760"/>
                <a:gd name="textAreaTop" fmla="*/ -360 h 333720"/>
                <a:gd name="textAreaBottom" fmla="*/ 333720 h 333720"/>
              </a:gdLst>
              <a:ahLst/>
              <a:rect l="textAreaLeft" t="textAreaTop" r="textAreaRight" b="textAreaBottom"/>
              <a:pathLst>
                <a:path w="1856" h="568">
                  <a:moveTo>
                    <a:pt x="504" y="96"/>
                  </a:moveTo>
                  <a:cubicBezTo>
                    <a:pt x="416" y="64"/>
                    <a:pt x="120" y="32"/>
                    <a:pt x="72" y="96"/>
                  </a:cubicBezTo>
                  <a:cubicBezTo>
                    <a:pt x="24" y="160"/>
                    <a:pt x="0" y="408"/>
                    <a:pt x="216" y="480"/>
                  </a:cubicBezTo>
                  <a:cubicBezTo>
                    <a:pt x="432" y="552"/>
                    <a:pt x="1096" y="568"/>
                    <a:pt x="1368" y="528"/>
                  </a:cubicBezTo>
                  <a:cubicBezTo>
                    <a:pt x="1640" y="488"/>
                    <a:pt x="1840" y="328"/>
                    <a:pt x="1848" y="240"/>
                  </a:cubicBezTo>
                  <a:cubicBezTo>
                    <a:pt x="1856" y="152"/>
                    <a:pt x="1536" y="0"/>
                    <a:pt x="1416" y="0"/>
                  </a:cubicBezTo>
                  <a:cubicBezTo>
                    <a:pt x="1296" y="0"/>
                    <a:pt x="1264" y="192"/>
                    <a:pt x="1128" y="240"/>
                  </a:cubicBezTo>
                  <a:cubicBezTo>
                    <a:pt x="992" y="288"/>
                    <a:pt x="704" y="312"/>
                    <a:pt x="600" y="288"/>
                  </a:cubicBezTo>
                  <a:cubicBezTo>
                    <a:pt x="496" y="264"/>
                    <a:pt x="592" y="128"/>
                    <a:pt x="504" y="96"/>
                  </a:cubicBezTo>
                  <a:close/>
                </a:path>
              </a:pathLst>
            </a:custGeom>
            <a:solidFill>
              <a:srgbClr val="1f497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Group 7"/>
            <p:cNvGrpSpPr/>
            <p:nvPr/>
          </p:nvGrpSpPr>
          <p:grpSpPr>
            <a:xfrm>
              <a:off x="1500840" y="1534680"/>
              <a:ext cx="1405800" cy="1294560"/>
              <a:chOff x="1500840" y="1534680"/>
              <a:chExt cx="1405800" cy="1294560"/>
            </a:xfrm>
          </p:grpSpPr>
          <p:grpSp>
            <p:nvGrpSpPr>
              <p:cNvPr id="53" name="Group 8"/>
              <p:cNvGrpSpPr/>
              <p:nvPr/>
            </p:nvGrpSpPr>
            <p:grpSpPr>
              <a:xfrm>
                <a:off x="1843560" y="1534680"/>
                <a:ext cx="1063080" cy="717120"/>
                <a:chOff x="1843560" y="1534680"/>
                <a:chExt cx="1063080" cy="717120"/>
              </a:xfrm>
            </p:grpSpPr>
            <p:sp>
              <p:nvSpPr>
                <p:cNvPr id="54" name="Oval 9"/>
                <p:cNvSpPr/>
                <p:nvPr/>
              </p:nvSpPr>
              <p:spPr>
                <a:xfrm rot="1841400">
                  <a:off x="1895760" y="15588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10"/>
                <p:cNvSpPr/>
                <p:nvPr/>
              </p:nvSpPr>
              <p:spPr>
                <a:xfrm rot="1841400">
                  <a:off x="2045880" y="170100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11"/>
                <p:cNvSpPr/>
                <p:nvPr/>
              </p:nvSpPr>
              <p:spPr>
                <a:xfrm rot="1841400">
                  <a:off x="1999800" y="18046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Oval 12"/>
                <p:cNvSpPr/>
                <p:nvPr/>
              </p:nvSpPr>
              <p:spPr>
                <a:xfrm rot="1841400">
                  <a:off x="2691000" y="19782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Freeform 13"/>
                <p:cNvSpPr/>
                <p:nvPr/>
              </p:nvSpPr>
              <p:spPr>
                <a:xfrm rot="1841400">
                  <a:off x="2373120" y="18950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Freeform 14"/>
                <p:cNvSpPr/>
                <p:nvPr/>
              </p:nvSpPr>
              <p:spPr>
                <a:xfrm rot="1841400">
                  <a:off x="2315520" y="19922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Group 15"/>
              <p:cNvGrpSpPr/>
              <p:nvPr/>
            </p:nvGrpSpPr>
            <p:grpSpPr>
              <a:xfrm>
                <a:off x="1729440" y="1727280"/>
                <a:ext cx="1063080" cy="717120"/>
                <a:chOff x="1729440" y="1727280"/>
                <a:chExt cx="1063080" cy="717120"/>
              </a:xfrm>
            </p:grpSpPr>
            <p:sp>
              <p:nvSpPr>
                <p:cNvPr id="61" name="Oval 16"/>
                <p:cNvSpPr/>
                <p:nvPr/>
              </p:nvSpPr>
              <p:spPr>
                <a:xfrm rot="1841400">
                  <a:off x="1781640" y="17514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17"/>
                <p:cNvSpPr/>
                <p:nvPr/>
              </p:nvSpPr>
              <p:spPr>
                <a:xfrm rot="1841400">
                  <a:off x="1931760" y="18932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18"/>
                <p:cNvSpPr/>
                <p:nvPr/>
              </p:nvSpPr>
              <p:spPr>
                <a:xfrm rot="1841400">
                  <a:off x="1885320" y="19972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9"/>
                <p:cNvSpPr/>
                <p:nvPr/>
              </p:nvSpPr>
              <p:spPr>
                <a:xfrm rot="1841400">
                  <a:off x="2576880" y="21708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20"/>
                <p:cNvSpPr/>
                <p:nvPr/>
              </p:nvSpPr>
              <p:spPr>
                <a:xfrm rot="1841400">
                  <a:off x="2259000" y="20876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Freeform 21"/>
                <p:cNvSpPr/>
                <p:nvPr/>
              </p:nvSpPr>
              <p:spPr>
                <a:xfrm rot="1841400">
                  <a:off x="2201040" y="21848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Group 22"/>
              <p:cNvGrpSpPr/>
              <p:nvPr/>
            </p:nvGrpSpPr>
            <p:grpSpPr>
              <a:xfrm>
                <a:off x="1615320" y="1920240"/>
                <a:ext cx="1062720" cy="716400"/>
                <a:chOff x="1615320" y="1920240"/>
                <a:chExt cx="1062720" cy="716400"/>
              </a:xfrm>
            </p:grpSpPr>
            <p:sp>
              <p:nvSpPr>
                <p:cNvPr id="68" name="Oval 23"/>
                <p:cNvSpPr/>
                <p:nvPr/>
              </p:nvSpPr>
              <p:spPr>
                <a:xfrm rot="1841400">
                  <a:off x="1667160" y="1944360"/>
                  <a:ext cx="163080" cy="24912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24"/>
                <p:cNvSpPr/>
                <p:nvPr/>
              </p:nvSpPr>
              <p:spPr>
                <a:xfrm rot="1841400">
                  <a:off x="1817280" y="2086200"/>
                  <a:ext cx="380880" cy="1058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25"/>
                <p:cNvSpPr/>
                <p:nvPr/>
              </p:nvSpPr>
              <p:spPr>
                <a:xfrm rot="1841400">
                  <a:off x="1770840" y="21902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26"/>
                <p:cNvSpPr/>
                <p:nvPr/>
              </p:nvSpPr>
              <p:spPr>
                <a:xfrm rot="1841400">
                  <a:off x="2462400" y="2363400"/>
                  <a:ext cx="163080" cy="24912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27"/>
                <p:cNvSpPr/>
                <p:nvPr/>
              </p:nvSpPr>
              <p:spPr>
                <a:xfrm rot="1841400">
                  <a:off x="2144520" y="2280600"/>
                  <a:ext cx="380880" cy="1058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28"/>
                <p:cNvSpPr/>
                <p:nvPr/>
              </p:nvSpPr>
              <p:spPr>
                <a:xfrm rot="1841400">
                  <a:off x="2086560" y="237780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29"/>
              <p:cNvGrpSpPr/>
              <p:nvPr/>
            </p:nvGrpSpPr>
            <p:grpSpPr>
              <a:xfrm>
                <a:off x="1500840" y="2112480"/>
                <a:ext cx="1063080" cy="716760"/>
                <a:chOff x="1500840" y="2112480"/>
                <a:chExt cx="1063080" cy="716760"/>
              </a:xfrm>
            </p:grpSpPr>
            <p:sp>
              <p:nvSpPr>
                <p:cNvPr id="75" name="Oval 30"/>
                <p:cNvSpPr/>
                <p:nvPr/>
              </p:nvSpPr>
              <p:spPr>
                <a:xfrm rot="1841400">
                  <a:off x="1553040" y="21366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Freeform 31"/>
                <p:cNvSpPr/>
                <p:nvPr/>
              </p:nvSpPr>
              <p:spPr>
                <a:xfrm rot="1841400">
                  <a:off x="1703160" y="22784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Freeform 32"/>
                <p:cNvSpPr/>
                <p:nvPr/>
              </p:nvSpPr>
              <p:spPr>
                <a:xfrm rot="1841400">
                  <a:off x="1656720" y="23824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33"/>
                <p:cNvSpPr/>
                <p:nvPr/>
              </p:nvSpPr>
              <p:spPr>
                <a:xfrm rot="1841400">
                  <a:off x="2348280" y="255564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34"/>
                <p:cNvSpPr/>
                <p:nvPr/>
              </p:nvSpPr>
              <p:spPr>
                <a:xfrm rot="1841400">
                  <a:off x="2030400" y="24728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Freeform 35"/>
                <p:cNvSpPr/>
                <p:nvPr/>
              </p:nvSpPr>
              <p:spPr>
                <a:xfrm rot="1841400">
                  <a:off x="1972440" y="25700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" name="Group 36"/>
            <p:cNvGrpSpPr/>
            <p:nvPr/>
          </p:nvGrpSpPr>
          <p:grpSpPr>
            <a:xfrm>
              <a:off x="1271880" y="2498040"/>
              <a:ext cx="1063080" cy="717120"/>
              <a:chOff x="1271880" y="2498040"/>
              <a:chExt cx="1063080" cy="717120"/>
            </a:xfrm>
          </p:grpSpPr>
          <p:sp>
            <p:nvSpPr>
              <p:cNvPr id="82" name="Oval 37"/>
              <p:cNvSpPr/>
              <p:nvPr/>
            </p:nvSpPr>
            <p:spPr>
              <a:xfrm rot="1841400">
                <a:off x="1324080" y="2522160"/>
                <a:ext cx="163080" cy="2494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38"/>
              <p:cNvSpPr/>
              <p:nvPr/>
            </p:nvSpPr>
            <p:spPr>
              <a:xfrm rot="1841400">
                <a:off x="1474200" y="266436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39"/>
              <p:cNvSpPr/>
              <p:nvPr/>
            </p:nvSpPr>
            <p:spPr>
              <a:xfrm rot="1841400">
                <a:off x="1427760" y="276840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Oval 40"/>
              <p:cNvSpPr/>
              <p:nvPr/>
            </p:nvSpPr>
            <p:spPr>
              <a:xfrm rot="1841400">
                <a:off x="2119320" y="2941560"/>
                <a:ext cx="163080" cy="24948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41"/>
              <p:cNvSpPr/>
              <p:nvPr/>
            </p:nvSpPr>
            <p:spPr>
              <a:xfrm rot="1841400">
                <a:off x="1801440" y="285840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 rot="1841400">
                <a:off x="1743480" y="295560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43"/>
            <p:cNvGrpSpPr/>
            <p:nvPr/>
          </p:nvGrpSpPr>
          <p:grpSpPr>
            <a:xfrm>
              <a:off x="1169640" y="2698200"/>
              <a:ext cx="1063080" cy="717120"/>
              <a:chOff x="1169640" y="2698200"/>
              <a:chExt cx="1063080" cy="717120"/>
            </a:xfrm>
          </p:grpSpPr>
          <p:sp>
            <p:nvSpPr>
              <p:cNvPr id="89" name="Oval 44"/>
              <p:cNvSpPr/>
              <p:nvPr/>
            </p:nvSpPr>
            <p:spPr>
              <a:xfrm rot="1841400">
                <a:off x="1221840" y="2722320"/>
                <a:ext cx="163080" cy="2494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45"/>
              <p:cNvSpPr/>
              <p:nvPr/>
            </p:nvSpPr>
            <p:spPr>
              <a:xfrm rot="1841400">
                <a:off x="1371600" y="286416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46"/>
              <p:cNvSpPr/>
              <p:nvPr/>
            </p:nvSpPr>
            <p:spPr>
              <a:xfrm rot="1841400">
                <a:off x="1325520" y="296820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47"/>
              <p:cNvSpPr/>
              <p:nvPr/>
            </p:nvSpPr>
            <p:spPr>
              <a:xfrm rot="1841400">
                <a:off x="2017080" y="3141720"/>
                <a:ext cx="163080" cy="24948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48"/>
              <p:cNvSpPr/>
              <p:nvPr/>
            </p:nvSpPr>
            <p:spPr>
              <a:xfrm rot="1841400">
                <a:off x="1698840" y="305856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49"/>
              <p:cNvSpPr/>
              <p:nvPr/>
            </p:nvSpPr>
            <p:spPr>
              <a:xfrm rot="1841400">
                <a:off x="1641240" y="315576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50"/>
            <p:cNvGrpSpPr/>
            <p:nvPr/>
          </p:nvGrpSpPr>
          <p:grpSpPr>
            <a:xfrm>
              <a:off x="1055520" y="2890800"/>
              <a:ext cx="1062720" cy="716400"/>
              <a:chOff x="1055520" y="2890800"/>
              <a:chExt cx="1062720" cy="716400"/>
            </a:xfrm>
          </p:grpSpPr>
          <p:sp>
            <p:nvSpPr>
              <p:cNvPr id="96" name="Oval 51"/>
              <p:cNvSpPr/>
              <p:nvPr/>
            </p:nvSpPr>
            <p:spPr>
              <a:xfrm rot="1841400">
                <a:off x="1107360" y="2914920"/>
                <a:ext cx="163080" cy="2491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52"/>
              <p:cNvSpPr/>
              <p:nvPr/>
            </p:nvSpPr>
            <p:spPr>
              <a:xfrm rot="1841400">
                <a:off x="1257480" y="3056760"/>
                <a:ext cx="380880" cy="105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53"/>
              <p:cNvSpPr/>
              <p:nvPr/>
            </p:nvSpPr>
            <p:spPr>
              <a:xfrm rot="1841400">
                <a:off x="1211040" y="316080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54"/>
              <p:cNvSpPr/>
              <p:nvPr/>
            </p:nvSpPr>
            <p:spPr>
              <a:xfrm rot="1841400">
                <a:off x="1902600" y="3333960"/>
                <a:ext cx="163080" cy="24912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Freeform 55"/>
              <p:cNvSpPr/>
              <p:nvPr/>
            </p:nvSpPr>
            <p:spPr>
              <a:xfrm rot="1841400">
                <a:off x="1584720" y="3251160"/>
                <a:ext cx="380880" cy="105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56"/>
              <p:cNvSpPr/>
              <p:nvPr/>
            </p:nvSpPr>
            <p:spPr>
              <a:xfrm rot="1841400">
                <a:off x="1527120" y="334836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57"/>
            <p:cNvGrpSpPr/>
            <p:nvPr/>
          </p:nvGrpSpPr>
          <p:grpSpPr>
            <a:xfrm>
              <a:off x="283320" y="3613680"/>
              <a:ext cx="1405800" cy="1294560"/>
              <a:chOff x="283320" y="3613680"/>
              <a:chExt cx="1405800" cy="1294560"/>
            </a:xfrm>
          </p:grpSpPr>
          <p:grpSp>
            <p:nvGrpSpPr>
              <p:cNvPr id="103" name="Group 58"/>
              <p:cNvGrpSpPr/>
              <p:nvPr/>
            </p:nvGrpSpPr>
            <p:grpSpPr>
              <a:xfrm>
                <a:off x="626040" y="3613680"/>
                <a:ext cx="1063080" cy="716760"/>
                <a:chOff x="626040" y="3613680"/>
                <a:chExt cx="1063080" cy="716760"/>
              </a:xfrm>
            </p:grpSpPr>
            <p:sp>
              <p:nvSpPr>
                <p:cNvPr id="104" name="Oval 59"/>
                <p:cNvSpPr/>
                <p:nvPr/>
              </p:nvSpPr>
              <p:spPr>
                <a:xfrm rot="1841400">
                  <a:off x="678240" y="36378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60"/>
                <p:cNvSpPr/>
                <p:nvPr/>
              </p:nvSpPr>
              <p:spPr>
                <a:xfrm rot="1841400">
                  <a:off x="828360" y="37796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Freeform 61"/>
                <p:cNvSpPr/>
                <p:nvPr/>
              </p:nvSpPr>
              <p:spPr>
                <a:xfrm rot="1841400">
                  <a:off x="782280" y="38836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Oval 62"/>
                <p:cNvSpPr/>
                <p:nvPr/>
              </p:nvSpPr>
              <p:spPr>
                <a:xfrm rot="1841400">
                  <a:off x="1473480" y="405684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63"/>
                <p:cNvSpPr/>
                <p:nvPr/>
              </p:nvSpPr>
              <p:spPr>
                <a:xfrm rot="1841400">
                  <a:off x="1155600" y="39740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64"/>
                <p:cNvSpPr/>
                <p:nvPr/>
              </p:nvSpPr>
              <p:spPr>
                <a:xfrm rot="1841400">
                  <a:off x="1098000" y="40712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65"/>
              <p:cNvGrpSpPr/>
              <p:nvPr/>
            </p:nvGrpSpPr>
            <p:grpSpPr>
              <a:xfrm>
                <a:off x="511920" y="3806280"/>
                <a:ext cx="1063080" cy="716760"/>
                <a:chOff x="511920" y="3806280"/>
                <a:chExt cx="1063080" cy="716760"/>
              </a:xfrm>
            </p:grpSpPr>
            <p:sp>
              <p:nvSpPr>
                <p:cNvPr id="111" name="Oval 66"/>
                <p:cNvSpPr/>
                <p:nvPr/>
              </p:nvSpPr>
              <p:spPr>
                <a:xfrm rot="1841400">
                  <a:off x="564120" y="38304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Freeform 67"/>
                <p:cNvSpPr/>
                <p:nvPr/>
              </p:nvSpPr>
              <p:spPr>
                <a:xfrm rot="1841400">
                  <a:off x="714240" y="39722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Freeform 68"/>
                <p:cNvSpPr/>
                <p:nvPr/>
              </p:nvSpPr>
              <p:spPr>
                <a:xfrm rot="1841400">
                  <a:off x="667800" y="40762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69"/>
                <p:cNvSpPr/>
                <p:nvPr/>
              </p:nvSpPr>
              <p:spPr>
                <a:xfrm rot="1841400">
                  <a:off x="1359360" y="424944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Freeform 70"/>
                <p:cNvSpPr/>
                <p:nvPr/>
              </p:nvSpPr>
              <p:spPr>
                <a:xfrm rot="1841400">
                  <a:off x="1041480" y="41666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Freeform 71"/>
                <p:cNvSpPr/>
                <p:nvPr/>
              </p:nvSpPr>
              <p:spPr>
                <a:xfrm rot="1841400">
                  <a:off x="983520" y="42638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72"/>
              <p:cNvGrpSpPr/>
              <p:nvPr/>
            </p:nvGrpSpPr>
            <p:grpSpPr>
              <a:xfrm>
                <a:off x="397800" y="3999240"/>
                <a:ext cx="1062720" cy="716400"/>
                <a:chOff x="397800" y="3999240"/>
                <a:chExt cx="1062720" cy="716400"/>
              </a:xfrm>
            </p:grpSpPr>
            <p:sp>
              <p:nvSpPr>
                <p:cNvPr id="118" name="Oval 73"/>
                <p:cNvSpPr/>
                <p:nvPr/>
              </p:nvSpPr>
              <p:spPr>
                <a:xfrm rot="1841400">
                  <a:off x="449640" y="4023360"/>
                  <a:ext cx="163080" cy="24912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74"/>
                <p:cNvSpPr/>
                <p:nvPr/>
              </p:nvSpPr>
              <p:spPr>
                <a:xfrm rot="1841400">
                  <a:off x="599760" y="4165200"/>
                  <a:ext cx="380880" cy="1058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75"/>
                <p:cNvSpPr/>
                <p:nvPr/>
              </p:nvSpPr>
              <p:spPr>
                <a:xfrm rot="1841400">
                  <a:off x="553320" y="42692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76"/>
                <p:cNvSpPr/>
                <p:nvPr/>
              </p:nvSpPr>
              <p:spPr>
                <a:xfrm rot="1841400">
                  <a:off x="1244880" y="4442400"/>
                  <a:ext cx="163080" cy="24912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1841400">
                  <a:off x="927000" y="4359240"/>
                  <a:ext cx="380880" cy="1058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Freeform 78"/>
                <p:cNvSpPr/>
                <p:nvPr/>
              </p:nvSpPr>
              <p:spPr>
                <a:xfrm rot="1841400">
                  <a:off x="869040" y="44564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Group 79"/>
              <p:cNvGrpSpPr/>
              <p:nvPr/>
            </p:nvGrpSpPr>
            <p:grpSpPr>
              <a:xfrm>
                <a:off x="283320" y="4191480"/>
                <a:ext cx="1063080" cy="716760"/>
                <a:chOff x="283320" y="4191480"/>
                <a:chExt cx="1063080" cy="716760"/>
              </a:xfrm>
            </p:grpSpPr>
            <p:sp>
              <p:nvSpPr>
                <p:cNvPr id="125" name="Oval 80"/>
                <p:cNvSpPr/>
                <p:nvPr/>
              </p:nvSpPr>
              <p:spPr>
                <a:xfrm rot="1841400">
                  <a:off x="335520" y="42156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Freeform 81"/>
                <p:cNvSpPr/>
                <p:nvPr/>
              </p:nvSpPr>
              <p:spPr>
                <a:xfrm rot="1841400">
                  <a:off x="485640" y="43574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Freeform 82"/>
                <p:cNvSpPr/>
                <p:nvPr/>
              </p:nvSpPr>
              <p:spPr>
                <a:xfrm rot="1841400">
                  <a:off x="439200" y="44614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Oval 83"/>
                <p:cNvSpPr/>
                <p:nvPr/>
              </p:nvSpPr>
              <p:spPr>
                <a:xfrm rot="1841400">
                  <a:off x="1130760" y="463464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Freeform 84"/>
                <p:cNvSpPr/>
                <p:nvPr/>
              </p:nvSpPr>
              <p:spPr>
                <a:xfrm rot="1841400">
                  <a:off x="812880" y="45514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Freeform 85"/>
                <p:cNvSpPr/>
                <p:nvPr/>
              </p:nvSpPr>
              <p:spPr>
                <a:xfrm rot="1841400">
                  <a:off x="754920" y="46486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Group 86"/>
            <p:cNvGrpSpPr/>
            <p:nvPr/>
          </p:nvGrpSpPr>
          <p:grpSpPr>
            <a:xfrm>
              <a:off x="2215440" y="330480"/>
              <a:ext cx="1406160" cy="1294560"/>
              <a:chOff x="2215440" y="330480"/>
              <a:chExt cx="1406160" cy="1294560"/>
            </a:xfrm>
          </p:grpSpPr>
          <p:grpSp>
            <p:nvGrpSpPr>
              <p:cNvPr id="132" name="Group 87"/>
              <p:cNvGrpSpPr/>
              <p:nvPr/>
            </p:nvGrpSpPr>
            <p:grpSpPr>
              <a:xfrm>
                <a:off x="2558520" y="330480"/>
                <a:ext cx="1063080" cy="717120"/>
                <a:chOff x="2558520" y="330480"/>
                <a:chExt cx="1063080" cy="717120"/>
              </a:xfrm>
            </p:grpSpPr>
            <p:sp>
              <p:nvSpPr>
                <p:cNvPr id="133" name="Oval 88"/>
                <p:cNvSpPr/>
                <p:nvPr/>
              </p:nvSpPr>
              <p:spPr>
                <a:xfrm rot="1841400">
                  <a:off x="2610720" y="3546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Freeform 89"/>
                <p:cNvSpPr/>
                <p:nvPr/>
              </p:nvSpPr>
              <p:spPr>
                <a:xfrm rot="1841400">
                  <a:off x="2760840" y="4964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Freeform 90"/>
                <p:cNvSpPr/>
                <p:nvPr/>
              </p:nvSpPr>
              <p:spPr>
                <a:xfrm rot="1841400">
                  <a:off x="2714400" y="6004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Oval 91"/>
                <p:cNvSpPr/>
                <p:nvPr/>
              </p:nvSpPr>
              <p:spPr>
                <a:xfrm rot="1841400">
                  <a:off x="3405960" y="7740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92"/>
                <p:cNvSpPr/>
                <p:nvPr/>
              </p:nvSpPr>
              <p:spPr>
                <a:xfrm rot="1841400">
                  <a:off x="3087720" y="6908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93"/>
                <p:cNvSpPr/>
                <p:nvPr/>
              </p:nvSpPr>
              <p:spPr>
                <a:xfrm rot="1841400">
                  <a:off x="3030120" y="7880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94"/>
              <p:cNvGrpSpPr/>
              <p:nvPr/>
            </p:nvGrpSpPr>
            <p:grpSpPr>
              <a:xfrm>
                <a:off x="2444040" y="523080"/>
                <a:ext cx="1063080" cy="717120"/>
                <a:chOff x="2444040" y="523080"/>
                <a:chExt cx="1063080" cy="717120"/>
              </a:xfrm>
            </p:grpSpPr>
            <p:sp>
              <p:nvSpPr>
                <p:cNvPr id="140" name="Oval 95"/>
                <p:cNvSpPr/>
                <p:nvPr/>
              </p:nvSpPr>
              <p:spPr>
                <a:xfrm rot="1841400">
                  <a:off x="2496240" y="5472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96"/>
                <p:cNvSpPr/>
                <p:nvPr/>
              </p:nvSpPr>
              <p:spPr>
                <a:xfrm rot="1841400">
                  <a:off x="2646360" y="6890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97"/>
                <p:cNvSpPr/>
                <p:nvPr/>
              </p:nvSpPr>
              <p:spPr>
                <a:xfrm rot="1841400">
                  <a:off x="2600280" y="7930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98"/>
                <p:cNvSpPr/>
                <p:nvPr/>
              </p:nvSpPr>
              <p:spPr>
                <a:xfrm rot="1841400">
                  <a:off x="3291480" y="9666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99"/>
                <p:cNvSpPr/>
                <p:nvPr/>
              </p:nvSpPr>
              <p:spPr>
                <a:xfrm rot="1841400">
                  <a:off x="2973600" y="8834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00"/>
                <p:cNvSpPr/>
                <p:nvPr/>
              </p:nvSpPr>
              <p:spPr>
                <a:xfrm rot="1841400">
                  <a:off x="2916000" y="9806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01"/>
              <p:cNvGrpSpPr/>
              <p:nvPr/>
            </p:nvGrpSpPr>
            <p:grpSpPr>
              <a:xfrm>
                <a:off x="2329920" y="716040"/>
                <a:ext cx="1062720" cy="716400"/>
                <a:chOff x="2329920" y="716040"/>
                <a:chExt cx="1062720" cy="716400"/>
              </a:xfrm>
            </p:grpSpPr>
            <p:sp>
              <p:nvSpPr>
                <p:cNvPr id="147" name="Oval 102"/>
                <p:cNvSpPr/>
                <p:nvPr/>
              </p:nvSpPr>
              <p:spPr>
                <a:xfrm rot="1841400">
                  <a:off x="2381760" y="740160"/>
                  <a:ext cx="163080" cy="24912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103"/>
                <p:cNvSpPr/>
                <p:nvPr/>
              </p:nvSpPr>
              <p:spPr>
                <a:xfrm rot="1841400">
                  <a:off x="2531880" y="882000"/>
                  <a:ext cx="380880" cy="1058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104"/>
                <p:cNvSpPr/>
                <p:nvPr/>
              </p:nvSpPr>
              <p:spPr>
                <a:xfrm rot="1841400">
                  <a:off x="2485800" y="9860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105"/>
                <p:cNvSpPr/>
                <p:nvPr/>
              </p:nvSpPr>
              <p:spPr>
                <a:xfrm rot="1841400">
                  <a:off x="3177000" y="1159200"/>
                  <a:ext cx="163080" cy="24912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Freeform 106"/>
                <p:cNvSpPr/>
                <p:nvPr/>
              </p:nvSpPr>
              <p:spPr>
                <a:xfrm rot="1841400">
                  <a:off x="2859120" y="1076400"/>
                  <a:ext cx="380880" cy="1058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107"/>
                <p:cNvSpPr/>
                <p:nvPr/>
              </p:nvSpPr>
              <p:spPr>
                <a:xfrm rot="1841400">
                  <a:off x="2801520" y="117360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108"/>
              <p:cNvGrpSpPr/>
              <p:nvPr/>
            </p:nvGrpSpPr>
            <p:grpSpPr>
              <a:xfrm>
                <a:off x="2215440" y="908280"/>
                <a:ext cx="1063080" cy="716760"/>
                <a:chOff x="2215440" y="908280"/>
                <a:chExt cx="1063080" cy="716760"/>
              </a:xfrm>
            </p:grpSpPr>
            <p:sp>
              <p:nvSpPr>
                <p:cNvPr id="154" name="Oval 109"/>
                <p:cNvSpPr/>
                <p:nvPr/>
              </p:nvSpPr>
              <p:spPr>
                <a:xfrm rot="1841400">
                  <a:off x="2267640" y="9324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110"/>
                <p:cNvSpPr/>
                <p:nvPr/>
              </p:nvSpPr>
              <p:spPr>
                <a:xfrm rot="1841400">
                  <a:off x="2417760" y="10742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111"/>
                <p:cNvSpPr/>
                <p:nvPr/>
              </p:nvSpPr>
              <p:spPr>
                <a:xfrm rot="1841400">
                  <a:off x="2371680" y="11782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Oval 112"/>
                <p:cNvSpPr/>
                <p:nvPr/>
              </p:nvSpPr>
              <p:spPr>
                <a:xfrm rot="1841400">
                  <a:off x="3062880" y="135144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113"/>
                <p:cNvSpPr/>
                <p:nvPr/>
              </p:nvSpPr>
              <p:spPr>
                <a:xfrm rot="1841400">
                  <a:off x="2745000" y="12686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114"/>
                <p:cNvSpPr/>
                <p:nvPr/>
              </p:nvSpPr>
              <p:spPr>
                <a:xfrm rot="1841400">
                  <a:off x="2687400" y="13658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" name="Group 115"/>
            <p:cNvGrpSpPr/>
            <p:nvPr/>
          </p:nvGrpSpPr>
          <p:grpSpPr>
            <a:xfrm>
              <a:off x="2100960" y="1101240"/>
              <a:ext cx="1063080" cy="717120"/>
              <a:chOff x="2100960" y="1101240"/>
              <a:chExt cx="1063080" cy="717120"/>
            </a:xfrm>
          </p:grpSpPr>
          <p:sp>
            <p:nvSpPr>
              <p:cNvPr id="161" name="Oval 116"/>
              <p:cNvSpPr/>
              <p:nvPr/>
            </p:nvSpPr>
            <p:spPr>
              <a:xfrm rot="1841400">
                <a:off x="2153160" y="1125360"/>
                <a:ext cx="163080" cy="2494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117"/>
              <p:cNvSpPr/>
              <p:nvPr/>
            </p:nvSpPr>
            <p:spPr>
              <a:xfrm rot="1841400">
                <a:off x="2303280" y="126756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118"/>
              <p:cNvSpPr/>
              <p:nvPr/>
            </p:nvSpPr>
            <p:spPr>
              <a:xfrm rot="1841400">
                <a:off x="2256840" y="137160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Oval 119"/>
              <p:cNvSpPr/>
              <p:nvPr/>
            </p:nvSpPr>
            <p:spPr>
              <a:xfrm rot="1841400">
                <a:off x="2948400" y="1544760"/>
                <a:ext cx="163080" cy="24948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120"/>
              <p:cNvSpPr/>
              <p:nvPr/>
            </p:nvSpPr>
            <p:spPr>
              <a:xfrm rot="1841400">
                <a:off x="2630520" y="146160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121"/>
              <p:cNvSpPr/>
              <p:nvPr/>
            </p:nvSpPr>
            <p:spPr>
              <a:xfrm rot="1841400">
                <a:off x="2572560" y="155880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Group 122"/>
            <p:cNvGrpSpPr/>
            <p:nvPr/>
          </p:nvGrpSpPr>
          <p:grpSpPr>
            <a:xfrm>
              <a:off x="1994400" y="1341360"/>
              <a:ext cx="592200" cy="364680"/>
              <a:chOff x="1994400" y="1341360"/>
              <a:chExt cx="592200" cy="364680"/>
            </a:xfrm>
          </p:grpSpPr>
          <p:sp>
            <p:nvSpPr>
              <p:cNvPr id="168" name="Oval 123"/>
              <p:cNvSpPr/>
              <p:nvPr/>
            </p:nvSpPr>
            <p:spPr>
              <a:xfrm rot="1841400">
                <a:off x="2029680" y="1366200"/>
                <a:ext cx="147600" cy="179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Group 124"/>
              <p:cNvGrpSpPr/>
              <p:nvPr/>
            </p:nvGrpSpPr>
            <p:grpSpPr>
              <a:xfrm>
                <a:off x="2195280" y="1438560"/>
                <a:ext cx="297000" cy="267480"/>
                <a:chOff x="2195280" y="1438560"/>
                <a:chExt cx="297000" cy="267480"/>
              </a:xfrm>
            </p:grpSpPr>
            <p:grpSp>
              <p:nvGrpSpPr>
                <p:cNvPr id="170" name="Group 125"/>
                <p:cNvGrpSpPr/>
                <p:nvPr/>
              </p:nvGrpSpPr>
              <p:grpSpPr>
                <a:xfrm>
                  <a:off x="2195280" y="1438560"/>
                  <a:ext cx="223560" cy="267480"/>
                  <a:chOff x="2195280" y="1438560"/>
                  <a:chExt cx="223560" cy="267480"/>
                </a:xfrm>
              </p:grpSpPr>
              <p:sp>
                <p:nvSpPr>
                  <p:cNvPr id="171" name="AutoShape 126"/>
                  <p:cNvSpPr/>
                  <p:nvPr/>
                </p:nvSpPr>
                <p:spPr>
                  <a:xfrm rot="1841400">
                    <a:off x="2223000" y="1459800"/>
                    <a:ext cx="88560" cy="134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AutoShape 127"/>
                  <p:cNvSpPr/>
                  <p:nvPr/>
                </p:nvSpPr>
                <p:spPr>
                  <a:xfrm rot="1841400">
                    <a:off x="2296440" y="1451520"/>
                    <a:ext cx="88560" cy="134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AutoShape 128"/>
                  <p:cNvSpPr/>
                  <p:nvPr/>
                </p:nvSpPr>
                <p:spPr>
                  <a:xfrm rot="1841400">
                    <a:off x="2301840" y="1558440"/>
                    <a:ext cx="88560" cy="134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AutoShape 129"/>
                <p:cNvSpPr/>
                <p:nvPr/>
              </p:nvSpPr>
              <p:spPr>
                <a:xfrm rot="1841400">
                  <a:off x="2375280" y="1550160"/>
                  <a:ext cx="88560" cy="13428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Line 130"/>
              <p:cNvSpPr/>
              <p:nvPr/>
            </p:nvSpPr>
            <p:spPr>
              <a:xfrm>
                <a:off x="2190240" y="1455120"/>
                <a:ext cx="7596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131"/>
              <p:cNvSpPr/>
              <p:nvPr/>
            </p:nvSpPr>
            <p:spPr>
              <a:xfrm rot="1841400">
                <a:off x="2452680" y="1622880"/>
                <a:ext cx="129600" cy="5112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211" h="55">
                    <a:moveTo>
                      <a:pt x="23" y="41"/>
                    </a:moveTo>
                    <a:cubicBezTo>
                      <a:pt x="108" y="12"/>
                      <a:pt x="0" y="40"/>
                      <a:pt x="105" y="53"/>
                    </a:cubicBezTo>
                    <a:cubicBezTo>
                      <a:pt x="121" y="55"/>
                      <a:pt x="136" y="45"/>
                      <a:pt x="152" y="41"/>
                    </a:cubicBezTo>
                    <a:cubicBezTo>
                      <a:pt x="156" y="29"/>
                      <a:pt x="153" y="11"/>
                      <a:pt x="164" y="6"/>
                    </a:cubicBezTo>
                    <a:cubicBezTo>
                      <a:pt x="179" y="0"/>
                      <a:pt x="211" y="17"/>
                      <a:pt x="211" y="1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32"/>
            <p:cNvGrpSpPr/>
            <p:nvPr/>
          </p:nvGrpSpPr>
          <p:grpSpPr>
            <a:xfrm>
              <a:off x="2475720" y="1575000"/>
              <a:ext cx="591480" cy="446040"/>
              <a:chOff x="2475720" y="1575000"/>
              <a:chExt cx="591480" cy="446040"/>
            </a:xfrm>
          </p:grpSpPr>
          <p:sp>
            <p:nvSpPr>
              <p:cNvPr id="178" name="Oval 133"/>
              <p:cNvSpPr/>
              <p:nvPr/>
            </p:nvSpPr>
            <p:spPr>
              <a:xfrm rot="1841400">
                <a:off x="2851560" y="1747440"/>
                <a:ext cx="163080" cy="24948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134"/>
              <p:cNvSpPr/>
              <p:nvPr/>
            </p:nvSpPr>
            <p:spPr>
              <a:xfrm rot="1841400">
                <a:off x="2533320" y="1664640"/>
                <a:ext cx="380880" cy="105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135"/>
              <p:cNvSpPr/>
              <p:nvPr/>
            </p:nvSpPr>
            <p:spPr>
              <a:xfrm rot="1841400">
                <a:off x="2475720" y="1761840"/>
                <a:ext cx="380880" cy="105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36"/>
            <p:cNvGrpSpPr/>
            <p:nvPr/>
          </p:nvGrpSpPr>
          <p:grpSpPr>
            <a:xfrm>
              <a:off x="1393920" y="2352960"/>
              <a:ext cx="592200" cy="364680"/>
              <a:chOff x="1393920" y="2352960"/>
              <a:chExt cx="592200" cy="364680"/>
            </a:xfrm>
          </p:grpSpPr>
          <p:sp>
            <p:nvSpPr>
              <p:cNvPr id="182" name="Oval 137"/>
              <p:cNvSpPr/>
              <p:nvPr/>
            </p:nvSpPr>
            <p:spPr>
              <a:xfrm rot="1841400">
                <a:off x="1429200" y="2377800"/>
                <a:ext cx="147600" cy="179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Group 138"/>
              <p:cNvGrpSpPr/>
              <p:nvPr/>
            </p:nvGrpSpPr>
            <p:grpSpPr>
              <a:xfrm>
                <a:off x="1594800" y="2450160"/>
                <a:ext cx="297000" cy="267480"/>
                <a:chOff x="1594800" y="2450160"/>
                <a:chExt cx="297000" cy="267480"/>
              </a:xfrm>
            </p:grpSpPr>
            <p:grpSp>
              <p:nvGrpSpPr>
                <p:cNvPr id="184" name="Group 139"/>
                <p:cNvGrpSpPr/>
                <p:nvPr/>
              </p:nvGrpSpPr>
              <p:grpSpPr>
                <a:xfrm>
                  <a:off x="1594800" y="2450160"/>
                  <a:ext cx="223560" cy="267480"/>
                  <a:chOff x="1594800" y="2450160"/>
                  <a:chExt cx="223560" cy="267480"/>
                </a:xfrm>
              </p:grpSpPr>
              <p:sp>
                <p:nvSpPr>
                  <p:cNvPr id="185" name="AutoShape 140"/>
                  <p:cNvSpPr/>
                  <p:nvPr/>
                </p:nvSpPr>
                <p:spPr>
                  <a:xfrm rot="1841400">
                    <a:off x="1622520" y="2471400"/>
                    <a:ext cx="88560" cy="134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AutoShape 141"/>
                  <p:cNvSpPr/>
                  <p:nvPr/>
                </p:nvSpPr>
                <p:spPr>
                  <a:xfrm rot="1841400">
                    <a:off x="1695960" y="2463120"/>
                    <a:ext cx="88560" cy="134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AutoShape 142"/>
                  <p:cNvSpPr/>
                  <p:nvPr/>
                </p:nvSpPr>
                <p:spPr>
                  <a:xfrm rot="1841400">
                    <a:off x="1701360" y="2570040"/>
                    <a:ext cx="88560" cy="134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8" name="AutoShape 143"/>
                <p:cNvSpPr/>
                <p:nvPr/>
              </p:nvSpPr>
              <p:spPr>
                <a:xfrm rot="1841400">
                  <a:off x="1774800" y="2561760"/>
                  <a:ext cx="88560" cy="13428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Line 144"/>
              <p:cNvSpPr/>
              <p:nvPr/>
            </p:nvSpPr>
            <p:spPr>
              <a:xfrm>
                <a:off x="1589760" y="2466720"/>
                <a:ext cx="75960" cy="4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145"/>
              <p:cNvSpPr/>
              <p:nvPr/>
            </p:nvSpPr>
            <p:spPr>
              <a:xfrm rot="1841400">
                <a:off x="1852200" y="2634840"/>
                <a:ext cx="129600" cy="5112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211" h="55">
                    <a:moveTo>
                      <a:pt x="23" y="41"/>
                    </a:moveTo>
                    <a:cubicBezTo>
                      <a:pt x="108" y="12"/>
                      <a:pt x="0" y="40"/>
                      <a:pt x="105" y="53"/>
                    </a:cubicBezTo>
                    <a:cubicBezTo>
                      <a:pt x="121" y="55"/>
                      <a:pt x="136" y="45"/>
                      <a:pt x="152" y="41"/>
                    </a:cubicBezTo>
                    <a:cubicBezTo>
                      <a:pt x="156" y="29"/>
                      <a:pt x="153" y="11"/>
                      <a:pt x="164" y="6"/>
                    </a:cubicBezTo>
                    <a:cubicBezTo>
                      <a:pt x="179" y="0"/>
                      <a:pt x="211" y="17"/>
                      <a:pt x="211" y="1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146"/>
            <p:cNvGrpSpPr/>
            <p:nvPr/>
          </p:nvGrpSpPr>
          <p:grpSpPr>
            <a:xfrm>
              <a:off x="1838880" y="2565000"/>
              <a:ext cx="591120" cy="446040"/>
              <a:chOff x="1838880" y="2565000"/>
              <a:chExt cx="591120" cy="446040"/>
            </a:xfrm>
          </p:grpSpPr>
          <p:sp>
            <p:nvSpPr>
              <p:cNvPr id="192" name="Oval 147"/>
              <p:cNvSpPr/>
              <p:nvPr/>
            </p:nvSpPr>
            <p:spPr>
              <a:xfrm rot="1841400">
                <a:off x="2214360" y="2737440"/>
                <a:ext cx="163080" cy="24948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148"/>
              <p:cNvSpPr/>
              <p:nvPr/>
            </p:nvSpPr>
            <p:spPr>
              <a:xfrm rot="1841400">
                <a:off x="1896480" y="2654640"/>
                <a:ext cx="380880" cy="105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149"/>
              <p:cNvSpPr/>
              <p:nvPr/>
            </p:nvSpPr>
            <p:spPr>
              <a:xfrm rot="1841400">
                <a:off x="1838880" y="2751840"/>
                <a:ext cx="380880" cy="105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AutoShape 150"/>
            <p:cNvSpPr/>
            <p:nvPr/>
          </p:nvSpPr>
          <p:spPr>
            <a:xfrm rot="1841400">
              <a:off x="482760" y="258696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AutoShape 151"/>
            <p:cNvSpPr/>
            <p:nvPr/>
          </p:nvSpPr>
          <p:spPr>
            <a:xfrm rot="1841400">
              <a:off x="599760" y="272160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utoShape 152"/>
            <p:cNvSpPr/>
            <p:nvPr/>
          </p:nvSpPr>
          <p:spPr>
            <a:xfrm rot="1841400">
              <a:off x="644040" y="2813040"/>
              <a:ext cx="84600" cy="11196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153"/>
            <p:cNvSpPr/>
            <p:nvPr/>
          </p:nvSpPr>
          <p:spPr>
            <a:xfrm rot="1841400">
              <a:off x="688320" y="290448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AutoShape 154"/>
            <p:cNvSpPr/>
            <p:nvPr/>
          </p:nvSpPr>
          <p:spPr>
            <a:xfrm rot="1841400">
              <a:off x="761040" y="294768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AutoShape 155"/>
            <p:cNvSpPr/>
            <p:nvPr/>
          </p:nvSpPr>
          <p:spPr>
            <a:xfrm rot="1841400">
              <a:off x="805320" y="303912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AutoShape 156"/>
            <p:cNvSpPr/>
            <p:nvPr/>
          </p:nvSpPr>
          <p:spPr>
            <a:xfrm rot="1841400">
              <a:off x="878400" y="308268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utoShape 157"/>
            <p:cNvSpPr/>
            <p:nvPr/>
          </p:nvSpPr>
          <p:spPr>
            <a:xfrm rot="1841400">
              <a:off x="428040" y="301104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utoShape 158"/>
            <p:cNvSpPr/>
            <p:nvPr/>
          </p:nvSpPr>
          <p:spPr>
            <a:xfrm rot="1841400">
              <a:off x="500760" y="305388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utoShape 159"/>
            <p:cNvSpPr/>
            <p:nvPr/>
          </p:nvSpPr>
          <p:spPr>
            <a:xfrm rot="1841400">
              <a:off x="555480" y="263016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160"/>
            <p:cNvSpPr/>
            <p:nvPr/>
          </p:nvSpPr>
          <p:spPr>
            <a:xfrm rot="1841400">
              <a:off x="594720" y="2979000"/>
              <a:ext cx="84600" cy="11196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  <p:sndAc>
      <p:stSnd>
        <p:snd r:embed="rId1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Passive Trans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720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imple Diffus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movement of particles from an area of </a:t>
            </a: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high concentr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n area of </a:t>
            </a: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low concentr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D:\Users\09106826\Desktop\diffusion.gif"/>
          <p:cNvPicPr/>
          <p:nvPr/>
        </p:nvPicPr>
        <p:blipFill>
          <a:blip r:embed="rId1"/>
          <a:stretch/>
        </p:blipFill>
        <p:spPr>
          <a:xfrm>
            <a:off x="6553080" y="1886040"/>
            <a:ext cx="2430720" cy="1822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"/>
          <p:cNvSpPr/>
          <p:nvPr/>
        </p:nvSpPr>
        <p:spPr>
          <a:xfrm>
            <a:off x="228600" y="3886200"/>
            <a:ext cx="86104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65040" indent="-28260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tinues until an equilibrium is reached (no gradi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65040" indent="-28260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ynamic equilibrium – particles move freely and are evenly distrib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65040" indent="-28260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bstances that dissolve in lipids (fats) will cross the plasma membrane easily as they are lipophilic (hydrophobic) e.g. alcohol and 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projctor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Passive Transport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ont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028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Facilitated Diffusi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movement of particles is facilitated or assisted by </a:t>
            </a:r>
            <a:r>
              <a:rPr b="1" lang="en-US" sz="3000" spc="-1" strike="noStrike">
                <a:solidFill>
                  <a:srgbClr val="00cc00"/>
                </a:solidFill>
                <a:latin typeface="Verdana"/>
              </a:rPr>
              <a:t>carrier protein molecules</a:t>
            </a:r>
            <a:r>
              <a:rPr b="1" lang="en-US" sz="3000" spc="-1" strike="noStrike">
                <a:solidFill>
                  <a:srgbClr val="92d05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the plasma membra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t direction of flow is also from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gh concentration to low concentr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d therefore, requires no energ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se are substances that do no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dily dissolve in the phospholipi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yer, e.g. gluco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  <p:sndAc>
      <p:stSnd>
        <p:snd r:embed="rId1" name="projctor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D:\Users\09106826\Desktop\pastrans.gif"/>
          <p:cNvPicPr/>
          <p:nvPr/>
        </p:nvPicPr>
        <p:blipFill>
          <a:blip r:embed="rId1"/>
          <a:stretch/>
        </p:blipFill>
        <p:spPr>
          <a:xfrm>
            <a:off x="1066680" y="838080"/>
            <a:ext cx="7142400" cy="4969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Passive Transport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ont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90080" y="138060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mosi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Diffusion of water across a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ively permeable membra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s until water is balanced 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sides of the membran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D:\Users\09106826\Desktop\osmosis.gif"/>
          <p:cNvPicPr/>
          <p:nvPr/>
        </p:nvPicPr>
        <p:blipFill>
          <a:blip r:embed="rId1"/>
          <a:stretch/>
        </p:blipFill>
        <p:spPr>
          <a:xfrm>
            <a:off x="1981080" y="3962520"/>
            <a:ext cx="5334120" cy="28321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Cell Concent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0880" y="990360"/>
            <a:ext cx="8382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1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Verdana"/>
              </a:rPr>
              <a:t>These refer to the comparison between the inside and outside of the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51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ypertonic solutions – more dissolved solu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51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ypotonic solutions – less dissolved solu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51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sotonic solutions – the same dissolved solu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  <p:sndAc>
      <p:stSnd>
        <p:snd r:embed="rId1" name="projctor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D:\Users\09106826\Desktop\plant-and-animal-cell-in-different-solutions1.gif"/>
          <p:cNvPicPr/>
          <p:nvPr/>
        </p:nvPicPr>
        <p:blipFill>
          <a:blip r:embed="rId1"/>
          <a:stretch/>
        </p:blipFill>
        <p:spPr>
          <a:xfrm>
            <a:off x="380880" y="762120"/>
            <a:ext cx="8377200" cy="5130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Haemoglobin 1.mov" descr=""/>
          <p:cNvPicPr/>
          <p:nvPr/>
        </p:nvPicPr>
        <p:blipFill>
          <a:blip r:embed="rId1"/>
          <a:stretch/>
        </p:blipFill>
        <p:spPr>
          <a:xfrm>
            <a:off x="762120" y="741240"/>
            <a:ext cx="3562200" cy="2671920"/>
          </a:xfrm>
          <a:prstGeom prst="rect">
            <a:avLst/>
          </a:prstGeom>
          <a:ln w="0">
            <a:noFill/>
          </a:ln>
        </p:spPr>
      </p:pic>
      <p:pic>
        <p:nvPicPr>
          <p:cNvPr id="238" name="Haemoglobin 2.mov" descr=""/>
          <p:cNvPicPr/>
          <p:nvPr/>
        </p:nvPicPr>
        <p:blipFill>
          <a:blip r:embed="rId2"/>
          <a:stretch/>
        </p:blipFill>
        <p:spPr>
          <a:xfrm>
            <a:off x="5029200" y="3413160"/>
            <a:ext cx="3476520" cy="26067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4568760" y="30492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0000"/>
                </a:solidFill>
                <a:latin typeface="Verdana"/>
              </a:rPr>
              <a:t>Hypertonic 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0000"/>
                </a:solidFill>
                <a:latin typeface="Verdana"/>
              </a:rPr>
              <a:t>(high solute, low wa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911160" y="411480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0000"/>
                </a:solidFill>
                <a:latin typeface="Verdana"/>
              </a:rPr>
              <a:t>Hypotonic 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0000"/>
                </a:solidFill>
                <a:latin typeface="Verdana"/>
              </a:rPr>
              <a:t>(low solute, high wa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projctor.wav"/>
      </p:stSnd>
    </p:sndAc>
  </p:transition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8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3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Overcoming Osm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5524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actile vacuoles – expel excess water from bacterial cells that live in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5524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urgor pressure – water pressure in a plant cell.  Loss of turgor pressure causes wilting (plasmolysi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55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  <p:sndAc>
      <p:stSnd>
        <p:snd r:embed="rId1" name="projctor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Cellular Trans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cc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Verdana"/>
              </a:rPr>
              <a:t>Active transport – energy is needed to move particles. It needs energy as it refers to the movement of substances AGAINST a concentration grad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energy is in the form of ATP – adenosine triphosphate.  It requires a carrier protein to transfer the material across the plasma membra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  <p:sndAc>
      <p:stSnd>
        <p:snd r:embed="rId1" name="projctor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Verdana"/>
                <a:ea typeface="Verdana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D:\Users\09106826\Desktop\400px-Scheme_sodium-potassium_pump-en_svg.png"/>
          <p:cNvPicPr/>
          <p:nvPr/>
        </p:nvPicPr>
        <p:blipFill>
          <a:blip r:embed="rId1"/>
          <a:stretch/>
        </p:blipFill>
        <p:spPr>
          <a:xfrm>
            <a:off x="685800" y="1905120"/>
            <a:ext cx="7966080" cy="3584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Homeostasis – Maintaining a Bal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352320" y="2133720"/>
            <a:ext cx="5791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must keep the proper concentration of nutrients and water and eliminate was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lasma membrane is </a:t>
            </a: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selectively perme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it will allow some things to pass through, while blocking other things.  This is also known as being </a:t>
            </a: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partially perme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semi-permeab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-31680" y="2209680"/>
            <a:ext cx="3956040" cy="3295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Verdana"/>
                <a:ea typeface="Verdana"/>
              </a:rPr>
              <a:t>Bulk Trans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0520" y="144792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Verdana"/>
                <a:ea typeface="Verdana"/>
              </a:rPr>
              <a:t>Larger particles entering the cell – formation of </a:t>
            </a:r>
            <a:r>
              <a:rPr b="1" lang="en-AU" sz="2500" spc="-1" strike="noStrike">
                <a:solidFill>
                  <a:srgbClr val="00cc00"/>
                </a:solidFill>
                <a:latin typeface="Verdana"/>
                <a:ea typeface="Verdana"/>
              </a:rPr>
              <a:t>vesicles</a:t>
            </a:r>
            <a:r>
              <a:rPr b="1" lang="en-AU" sz="2500" spc="-1" strike="noStrike">
                <a:solidFill>
                  <a:srgbClr val="000000"/>
                </a:solidFill>
                <a:latin typeface="Verdana"/>
                <a:ea typeface="Verdana"/>
              </a:rPr>
              <a:t> around the 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cc00"/>
                </a:solidFill>
                <a:latin typeface="Verdana"/>
                <a:ea typeface="Verdana"/>
              </a:rPr>
              <a:t>Endocytosis</a:t>
            </a:r>
            <a:r>
              <a:rPr b="1" lang="en-AU" sz="2500" spc="-1" strike="noStrike">
                <a:solidFill>
                  <a:srgbClr val="000000"/>
                </a:solidFill>
                <a:latin typeface="Verdana"/>
                <a:ea typeface="Verdana"/>
              </a:rPr>
              <a:t> – material moving INTO a ce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cc00"/>
                </a:solidFill>
                <a:latin typeface="Verdana"/>
                <a:ea typeface="Verdana"/>
              </a:rPr>
              <a:t>Phagocytosis</a:t>
            </a:r>
            <a:r>
              <a:rPr b="1" lang="en-AU" sz="2500" spc="-1" strike="noStrike">
                <a:solidFill>
                  <a:srgbClr val="000000"/>
                </a:solidFill>
                <a:latin typeface="Verdana"/>
                <a:ea typeface="Verdana"/>
              </a:rPr>
              <a:t> – solids entering the ce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cc00"/>
                </a:solidFill>
                <a:latin typeface="Verdana"/>
                <a:ea typeface="Verdana"/>
              </a:rPr>
              <a:t>Pinocytosis</a:t>
            </a:r>
            <a:r>
              <a:rPr b="1" lang="en-AU" sz="2500" spc="-1" strike="noStrike">
                <a:solidFill>
                  <a:srgbClr val="000000"/>
                </a:solidFill>
                <a:latin typeface="Verdana"/>
                <a:ea typeface="Verdana"/>
              </a:rPr>
              <a:t> – liquid entering the ce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cc00"/>
                </a:solidFill>
                <a:latin typeface="Verdana"/>
                <a:ea typeface="Verdana"/>
              </a:rPr>
              <a:t>Exocytosis </a:t>
            </a:r>
            <a:r>
              <a:rPr b="1" lang="en-AU" sz="2500" spc="-1" strike="noStrike">
                <a:solidFill>
                  <a:srgbClr val="000000"/>
                </a:solidFill>
                <a:latin typeface="Verdana"/>
                <a:ea typeface="Verdana"/>
              </a:rPr>
              <a:t>– material moving OUT of the ce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D:\Users\09106826\Desktop\endoexo.gif"/>
          <p:cNvPicPr/>
          <p:nvPr/>
        </p:nvPicPr>
        <p:blipFill>
          <a:blip r:embed="rId1"/>
          <a:stretch/>
        </p:blipFill>
        <p:spPr>
          <a:xfrm>
            <a:off x="5105520" y="1828800"/>
            <a:ext cx="3809880" cy="3733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D:\Users\09106826\Desktop\0322.jpg"/>
          <p:cNvPicPr/>
          <p:nvPr/>
        </p:nvPicPr>
        <p:blipFill>
          <a:blip r:embed="rId1"/>
          <a:stretch/>
        </p:blipFill>
        <p:spPr>
          <a:xfrm>
            <a:off x="272880" y="228600"/>
            <a:ext cx="3857760" cy="3048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D:\Users\09106826\Desktop\Endocytosis_types.png"/>
          <p:cNvPicPr/>
          <p:nvPr/>
        </p:nvPicPr>
        <p:blipFill>
          <a:blip r:embed="rId2"/>
          <a:stretch/>
        </p:blipFill>
        <p:spPr>
          <a:xfrm>
            <a:off x="2514600" y="3505320"/>
            <a:ext cx="640080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Structure of the Plasma Membr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152280" y="1676520"/>
            <a:ext cx="9067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ouble phospholipid (phosphates and lipids - fat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uble phospholipid membranes are found around the cell (plasma membrane), the nucleus, vacuoles, mitochondria, and chloroplas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mbedded with proteins and strengthened with cholesterol molecul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is model of what the plasma membrane looks like is called the </a:t>
            </a:r>
            <a:r>
              <a:rPr b="1" lang="en-US" sz="2700" spc="-1" strike="noStrike">
                <a:solidFill>
                  <a:srgbClr val="00cc00"/>
                </a:solidFill>
                <a:latin typeface="Verdana"/>
                <a:ea typeface="ＭＳ Ｐゴシック"/>
              </a:rPr>
              <a:t>FLUID MOSAIC MOD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  <p:sndAc>
      <p:stSnd>
        <p:snd r:embed="rId1" name="projctor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What</a:t>
            </a:r>
            <a:r>
              <a:rPr b="1" lang="ja-JP" sz="44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s a Phospholipi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1163160"/>
            <a:ext cx="45720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 a pair of fatty acid chains and a phosphate group attached to a glycerol backb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lar (water-soluble) heads face out and the nonpolar fatty acids hang ins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6" descr="D:\Users\09106826\Desktop\phosolipid.jpg"/>
          <p:cNvPicPr/>
          <p:nvPr/>
        </p:nvPicPr>
        <p:blipFill>
          <a:blip r:embed="rId1"/>
          <a:stretch/>
        </p:blipFill>
        <p:spPr>
          <a:xfrm>
            <a:off x="6365880" y="1295280"/>
            <a:ext cx="2514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D:\Users\09106826\Desktop\PLB.jpg"/>
          <p:cNvPicPr/>
          <p:nvPr/>
        </p:nvPicPr>
        <p:blipFill>
          <a:blip r:embed="rId2"/>
          <a:stretch/>
        </p:blipFill>
        <p:spPr>
          <a:xfrm>
            <a:off x="4876920" y="4606920"/>
            <a:ext cx="261288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80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Membrane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2280" y="13716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 particles can pass through the membra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e as enzymes (may speed reaction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 as markers that are recognized by chemicals and molecules from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ide and the outside of the cell (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mune syste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5" descr="D:\Users\09106826\Desktop\cellmembrane2.gif"/>
          <p:cNvPicPr/>
          <p:nvPr/>
        </p:nvPicPr>
        <p:blipFill>
          <a:blip r:embed="rId1"/>
          <a:stretch/>
        </p:blipFill>
        <p:spPr>
          <a:xfrm>
            <a:off x="5562720" y="5181480"/>
            <a:ext cx="2933640" cy="1568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image009.jpg"/>
          <p:cNvPicPr/>
          <p:nvPr/>
        </p:nvPicPr>
        <p:blipFill>
          <a:blip r:embed="rId1"/>
          <a:stretch/>
        </p:blipFill>
        <p:spPr>
          <a:xfrm>
            <a:off x="533520" y="457200"/>
            <a:ext cx="4111560" cy="3048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" descr="Figure_05_02_05.jpg"/>
          <p:cNvPicPr/>
          <p:nvPr/>
        </p:nvPicPr>
        <p:blipFill>
          <a:blip r:embed="rId2"/>
          <a:stretch/>
        </p:blipFill>
        <p:spPr>
          <a:xfrm>
            <a:off x="3573360" y="3505320"/>
            <a:ext cx="557064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ell membrane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580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05-12-PlasmaMembraneArt-L.gif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1832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Movement in and out of the Cell (Cellular Transpor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43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00"/>
                </a:solidFill>
                <a:uFillTx/>
                <a:latin typeface="Verdana"/>
              </a:rPr>
              <a:t>Passive transport</a:t>
            </a:r>
            <a:r>
              <a:rPr b="1" lang="en-US" sz="3200" spc="-1" strike="noStrike">
                <a:solidFill>
                  <a:srgbClr val="00cc00"/>
                </a:solidFill>
                <a:latin typeface="Verdana"/>
              </a:rPr>
              <a:t> – no energy is needed to move particles across the plasma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are three main 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28640" indent="-514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Simple diffu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28640" indent="-514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Facilitated diffu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28640" indent="-514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Osmosi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28640" indent="-514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  <p:sndAc>
      <p:stSnd>
        <p:snd r:embed="rId1" name="projctor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23:27:40Z</dcterms:created>
  <dc:creator>Raymond M. Coleman</dc:creator>
  <dc:description/>
  <dc:language>en-US</dc:language>
  <cp:lastModifiedBy>Shelley Hatch</cp:lastModifiedBy>
  <dcterms:modified xsi:type="dcterms:W3CDTF">2014-06-17T05:30:13Z</dcterms:modified>
  <cp:revision>35</cp:revision>
  <dc:subject/>
  <dc:title>Plasma Membrane</dc:title>
</cp:coreProperties>
</file>